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8E4-D617-4BFB-8503-AF8C799E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368-E93C-4DD1-AB6A-AAFE48C5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29B-2306-401A-B07B-5BF5DF97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91C-006F-40DD-A69D-B888D3E7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866A-E449-4B1A-83FB-5E112577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F2F8-C853-4BBC-8378-0ADE1FD7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14CD-8955-43CA-9713-DD6768E7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42BE-6098-40E8-B9EA-41307CD0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7899-7E58-43D3-A268-AA7E8C1B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ED75-EC6B-4CFF-9697-BDD5E368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497F-13CD-4B6A-8D1F-31A83236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B3E-2DF3-4531-BE83-AF8223D8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4B71-DA70-4A44-A424-45DBCE3C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25D2-22E2-448D-B54B-C652EC19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3F41-6DE2-4D6C-85D8-5BCA8C9C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373D-CDB4-46F1-8725-7C608916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F447-EB88-42CA-B003-F7964654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C25-368F-4214-BAC3-487B4475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B96-5191-4EF4-9922-F03DE576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029-358D-4669-BE70-D558876D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231-F041-47E0-9ABC-F54E10B7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B5F-1EE1-4D8D-8EED-86760A07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BB7-EEC4-4479-AEB5-D9CA94EA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C08-7793-42C3-BA2E-77FB6EE0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4193-5244-4970-AA92-3E88270139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63C3-CEB1-4326-B686-7522C51ED0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al Problem, Model, &amp;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Catherine McGow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UC 53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al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are unable to identify and apply addition concepts and skills in preparation for the GED math subject t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order to move to the next course level, students must be able to master basic addition concepts and ski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rrison, Ross, and Kemp (2004) ISD mod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world situ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45120" y="2362320"/>
            <a:ext cx="380988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al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gnitive Apprenticesh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er as facilita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-based pro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hentic, performance-based assess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ffolded instru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 Constructivist/Situated Cognition learning theo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labor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aptable to many learning situ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s for student refl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45120" y="2813040"/>
            <a:ext cx="38098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20:27:56Z</dcterms:created>
  <dc:creator>Catherine</dc:creator>
  <dc:description/>
  <dc:language>en-US</dc:language>
  <cp:lastModifiedBy>Catherine</cp:lastModifiedBy>
  <dcterms:modified xsi:type="dcterms:W3CDTF">2009-07-12T00:18:39Z</dcterms:modified>
  <cp:revision>2</cp:revision>
  <dc:subject/>
  <dc:title>Instructional Problem, Model, &amp; Strategy</dc:title>
</cp:coreProperties>
</file>